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C139-1C39-4179-BA95-7AAE43D40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EDF259-0F67-4D87-9A16-2232A8E0EEE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4253-BD96-4685-8648-78EEFF5D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9081F-3E10-4469-83DE-65EE0BD7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A52B1-9F2D-4207-94F5-6B53E802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4EC0D-907A-4E00-8F69-29AAC76B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D9D0-7B98-427D-98CE-C31386DB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EB0B-874A-47BA-914C-20AF7C21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3312-359C-4105-ADD6-F398BEAB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7C5F-CECB-4D00-9628-6AD56067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5BA6-1A7A-4265-ADFB-B8B13EFC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E3A3-8780-411D-A468-4326F72D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CD1F-2ECA-4D06-918F-FF0FA8C8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B949-7265-4E94-A0EB-AEE52123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F393-11BB-4CFD-9260-9CC9552D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BB45-51A8-40E3-90B3-2F031F1D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516E-7022-4C2E-8185-4F5157F1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C69F-A238-4F64-88A1-C6D305B7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854D-4E67-4629-9DCC-F388D894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4627C-0D6A-4F95-9C74-92BB18E4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589F-62C7-4E3F-8524-C9BCF9C1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6828-AA17-4DE1-A43F-6AF4D162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BC8BC-9C11-4512-B191-7CE762B5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0A06F-D54A-4197-ADE3-D88F68CF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4451-D8D4-4D75-AA3A-B0947483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6653-9C49-4EC8-9774-C99F5A07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7C8A-57F3-4592-BD25-6323837956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D0C1-61E4-4423-A28F-C2967D24E8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basis for evaluating 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effectivenes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echnical ef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ocative ef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Dynamic ef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n-market social va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Overall, focus in this area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cative and dynamic efficienc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ing emphasis in some market segments on non-market social val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ffects on technical efficiency should always also be under conside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rvey of current U.S. policy mix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ot possible to characterize the evolution of policy over time as beco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publicly ba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privately ba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x keeps changing in different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ook at policies using the framework discussed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safety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rationale is market failure due t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adequ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rna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instru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Primarily direct regul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dat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t with shift in emphasis to more private responsibility—preventative 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jor food safety agencies/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od Safety and Inspection Service (FSIS)—US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t, poultry, and processed egg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ous insp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CCP for meat and poult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od and Drug Administration (F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other fo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iodic insp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CCP for seafood and ju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trition quality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rationale is market failure due t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adequ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rna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instru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Direct regulation and oversight/support of mar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label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luntary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jor nutrition quality agencies/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DA &amp; US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trition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pe VI labeling of nutrition content in nutrition facts pan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pe V labeling of nutrient content and health clai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sight of other voluntary clai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ucation on dietary guidelines &amp; healthy ea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US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ignment of programs such as WIC and School Lunch/Breakfast with dietary guidelin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nsory/organoleptic &amp; value/function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rationale is market failure due t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adequ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nopolistic competition and concentrated market pow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instru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Direct regulation and oversight/support of mar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datory Type VI labe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luntary certif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luntary Type V labe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jor sensory/organoleptic &amp; value/function agencies and 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US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y broad range of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, grades and standards; quality grade marks for fruits, vegetables,  and mea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oad range of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, standards of identity, quantity, and fi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cess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rationales ar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et failure due to inadequ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mote non-market social va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instrument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Direct regulation and oversight/support of mar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Type VI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certification if using some voluntary claims (e.g., organi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luntary certification and labeling (Type V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jor process attribute agencies/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gricultural Marketing Service (AMS)—USD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y broad range of programs, for exam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untry of origin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standards and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udit and accreditation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DA Process Verified Pr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ALLENGES IN CHOOSING THE MIX OF PUBLIC AND PRIVATE STANDARDS FOR FOOD QUALITY ASSURAN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lie A. Casw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tional pattern of standards for process attribut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For the range of process attribute oriented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icult to identify a level of market fail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at consistently propels an issue forward strongly enoug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federal marketing policy to be viewed as warra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Lobbying by interested parties in support of government action may be the strongest factor in establishing these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ad map for policy eval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Outline the quality attributes or external indicators and cues the policy is address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alternative suites of attributes, cues, and indicators that it might addre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rticulate policy ration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Define policy instrume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cluding responsibilities for standard setting, certification to standards, and labe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valuate policy perform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tions for adjusting federal food quality assurance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Evaluation of existing and proposed polici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what quality assurance issues related t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ch attributes should be address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what policy instru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cus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isks (public health, market, trade, consumer perception, social sensitivity) the policy would be address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enefits and costs of taking or not taking 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act on performance cri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ystematic approa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ould focus limited governmental resources on important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gislators, administrations, and agency personnel could respond systematical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calls for government action in markets for food quality attribut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anies, consumers, and citizens could evaluate what types of quality assur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e suited to first-, second-, and third-party activities versus government policy or hybrid syste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ederal government faces challenges in choosing food quality polici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arge volume of domestic and international agricultural and food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Range of quality attributes of interest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vernment agen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ly chain participa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um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rivate sector/third party assurance systems are becoming increasingly sophistic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ramework for characterizing and evaluating federal poli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ased 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lity attribute targe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tionales for government policies and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jor type of policy instrument u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rect regulation: Setting and enforcing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mandat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minimum standards and/or labeling requir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sight/support of markets: 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ting, overseeing, and/or guid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volunta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tandards and/or labe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es for evaluating  policy effective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ich quality attributes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re targeted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1752480"/>
          <a:ext cx="6324840" cy="4572000"/>
        </p:xfrm>
        <a:graphic>
          <a:graphicData uri="http://schemas.openxmlformats.org/drawingml/2006/table">
            <a:tbl>
              <a:tblPr/>
              <a:tblGrid>
                <a:gridCol w="6324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rinsic Quality Attribut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.   Food safe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.g., foodborne pathogens, pesticide residu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514"/>
                        </a:buClr>
                        <a:buSzPct val="70000"/>
                        <a:buFont typeface="Garamond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utrition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.   Sensory/organoletic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.g., taste and tenderness, colo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4.   Value/function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.g., compositional integri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.   Proces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.g., animal welfare, organic, use of GMO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are the economic rationales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r public policy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66680" y="1752480"/>
          <a:ext cx="6858000" cy="44197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ress Unsatisfactory Performanc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.  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llocative inefficiency—market failure due to: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nadequate information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9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ore likely with credence attributes, less likely with experience and search attributes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2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onopolistic competition and concentrated market powe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2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xtern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.   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Failure to meet non-market social valu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5800" y="345600"/>
            <a:ext cx="834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policy instruments are used?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50720" y="1523880"/>
            <a:ext cx="8352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horthand for policy instruments us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1752480"/>
          <a:ext cx="6858000" cy="30481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2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irect regulation: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692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Regulatory policies focused on setting and enforcing mandatory minimum standards and/or labeling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Oversight/support of markets: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olicies focused on building markets; supporting fair trade; and setting, overseeing, and/or guiding voluntary standards and labeling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08000" y="836640"/>
          <a:ext cx="8889840" cy="5769000"/>
        </p:xfrm>
        <a:graphic>
          <a:graphicData uri="http://schemas.openxmlformats.org/drawingml/2006/table">
            <a:tbl>
              <a:tblPr/>
              <a:tblGrid>
                <a:gridCol w="581040"/>
                <a:gridCol w="1366920"/>
                <a:gridCol w="1365120"/>
                <a:gridCol w="1131840"/>
                <a:gridCol w="4444920"/>
              </a:tblGrid>
              <a:tr h="78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wner of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beling Standard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mary Means of Label Certification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beling Approach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,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 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 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individual companies based on self-declared standards, with self certification by buyer or seller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,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ective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 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collective self-declared standards, with self certification by buyer or seller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,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ective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collective self-declared standards, with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 certification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dependent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standards set by independent body (e.g., non-governmental organization, private certification body), with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 certification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 or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government standard, with government or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 certification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dator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government standard, with government certification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1"/>
          <p:cNvSpPr/>
          <p:nvPr/>
        </p:nvSpPr>
        <p:spPr>
          <a:xfrm>
            <a:off x="250920" y="-41400"/>
            <a:ext cx="87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Times New Roman"/>
              </a:rPr>
              <a:t>Which, if any, labeling type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1T22:39:24Z</dcterms:modified>
  <cp:revision>40</cp:revision>
  <dc:subject/>
  <dc:title>U.S. Policies Affecting Food and Agricultural Marketing</dc:title>
</cp:coreProperties>
</file>